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2CEC5-B416-4EC4-AE08-A85CACCE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E7EC9-D3BE-4264-A6D0-6319055E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D0A37-E978-4492-BF01-91E3B6D0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BE62B-8536-4974-AE24-BB772EEC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7976-ACB4-44C2-8714-4E162FC7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5E55-4584-4BAE-987D-3427F7BC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4F14-61C7-49E0-8CCD-D6E11092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F506-6E9B-446E-A8E7-DE281AE2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7342-75B9-4284-A267-356BCD5F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C9C1-28C9-420F-BBDF-963CEB9E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C24E-DDBA-44CF-98B4-A71E0DC1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2FA8E-12E6-42EF-8C7B-55709FD7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6945-0A11-4791-870E-EE1695F4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61C1-9A96-4EF9-BDA0-A3037C86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7BC5-067B-4FAC-B93E-2F5C5559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9A6E-2D8D-4BAD-BBE4-B478932B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1C71-950D-4FEA-9208-064EFE61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02566-5D5A-4FFA-AFC3-294F3AA4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6BF9F-66EF-4CD9-8D85-C171B085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85B6F-A8E1-4D6B-8446-A3B7C1D2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BBA2A-8CE4-4BE2-8D99-6C4CC54D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2C1D1-C7DC-43FB-A3C9-A5126DBA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8843E-0FC1-4472-B1EF-FC1399AB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3C1EB-F0B7-408C-9974-F892FA6A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3607-70CF-440E-B1F1-662259157B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6BB5-E6E1-43AB-9121-90CD4D9D8B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erb Tense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ing Verbs to Express Different Ti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the past tense of regular verb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past-tense form of the verb in parenthes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ber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hike) many miles through the woods of Main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ik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i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hik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the past tense of regular verb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past-tense form of the verb in parenthes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ber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hike) many miles through the woods of Main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ik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i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) hik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gular past-participle ending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st participl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 verb that is used with a helping verb, such a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all regular verbs, the past-participle form is the same as the past tense form. It uses a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ding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st tens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 visited my cousi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st participl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 have visited my cousi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the past participle of regular verb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form of the verb in parenthese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 weekday night, I ha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study) for three hou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stu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studi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stud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the past participle of regular verb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form of the verb in parenthese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 weekday night, I ha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study) for three hou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stu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studi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stud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Irregular verb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rregular verb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 not follow the regular pattern for endings. The following are some common irregular verbs: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e, bring, do, get, give, go, have/has, make, say, see, speak, take, wri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Irregular verb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143000"/>
          <a:ext cx="8229600" cy="5194440"/>
        </p:xfrm>
        <a:graphic>
          <a:graphicData uri="http://schemas.openxmlformats.org/drawingml/2006/table">
            <a:tbl>
              <a:tblPr/>
              <a:tblGrid>
                <a:gridCol w="2362320"/>
                <a:gridCol w="2361960"/>
                <a:gridCol w="350532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sent ten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ast ten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used with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s/have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 (am/are/i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ro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ro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ot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iv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ve/h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ore irregular verb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143000"/>
          <a:ext cx="8229600" cy="5170320"/>
        </p:xfrm>
        <a:graphic>
          <a:graphicData uri="http://schemas.openxmlformats.org/drawingml/2006/table">
            <a:tbl>
              <a:tblPr/>
              <a:tblGrid>
                <a:gridCol w="2362320"/>
                <a:gridCol w="2361960"/>
                <a:gridCol w="350532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sent ten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ast ten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used with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s/hav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pea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po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pok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a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ak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ri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ro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rit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g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g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g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esent tense of two irregular verb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1828800"/>
          <a:ext cx="8686800" cy="3778200"/>
        </p:xfrm>
        <a:graphic>
          <a:graphicData uri="http://schemas.openxmlformats.org/drawingml/2006/table">
            <a:tbl>
              <a:tblPr/>
              <a:tblGrid>
                <a:gridCol w="2209680"/>
                <a:gridCol w="2362320"/>
                <a:gridCol w="2209680"/>
                <a:gridCol w="190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, she, it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editor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th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editors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th and Christina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, she, it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hav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in the presen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form of the verb in parenthes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___ (be) happy that you have decided to take the job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b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at is verb tense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 tense tell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wh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 action happened: in the past, in the present, or in the futur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s change their form and use the helping verb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o indicate different ten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esent tens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ick hikes every weeken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st tens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e hiked ten miles last weeken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uture tens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e will hike again on Satur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hav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in the presen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form of the verb in parenthes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___ (be) happy that you have decided to take the job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b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hav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in the presen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form of the verb in parenthes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enter the building, you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have) to get a pas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av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ha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hav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in the presen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form of the verb in parenthes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enter the building, you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have) to get a pas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av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) ha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Irregular verbs in the pas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rregular verb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 not use th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ding for the past-tense form. They show the past tense with a change in spelling or in some other wa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Irregular verbs in the pas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981080"/>
          <a:ext cx="8229600" cy="2133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sent ten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ast ten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gi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today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ga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yesterday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lee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very soundly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lep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late this morning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e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the dog in today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e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the dog in yesterday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verb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pas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verb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tricky because it has two different forms for the past tense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wer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09480" y="3048120"/>
          <a:ext cx="8077320" cy="2598480"/>
        </p:xfrm>
        <a:graphic>
          <a:graphicData uri="http://schemas.openxmlformats.org/drawingml/2006/table">
            <a:tbl>
              <a:tblPr/>
              <a:tblGrid>
                <a:gridCol w="1828800"/>
                <a:gridCol w="281952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rst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w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 w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con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w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w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ir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, she, it w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student w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w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students w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in the pas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past tense of the verb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e decided that her problem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not going to stop he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we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w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in the pas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past tense of the verb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e decided that her problem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not going to stop he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we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w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irregular verbs in the pas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past tense of the irregular verb in parenthese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think) my pronunciation was terrible, but the teacher said I was improving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thou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think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th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irregular verbs in the pas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past tense of the irregular verb in parenthese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think) my pronunciation was terrible, but the teacher said I was improv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thou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think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th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ypes of verb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verbs in English ar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gular verb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t follow standard rules about what endings to use to express tim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rregular verb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 not follow the regular pattern for endin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Irregular verbs in the past participl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irregular verbs, the past participle is often different from the past ten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is difficult to predict how irregular verbs form the past participle. It may be helpful to refer to a chart or list of irregular past participl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52280" y="4038480"/>
          <a:ext cx="8839440" cy="1874880"/>
        </p:xfrm>
        <a:graphic>
          <a:graphicData uri="http://schemas.openxmlformats.org/drawingml/2006/table">
            <a:tbl>
              <a:tblPr/>
              <a:tblGrid>
                <a:gridCol w="2133720"/>
                <a:gridCol w="2438280"/>
                <a:gridCol w="426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ast ten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gular 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alke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home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ve walke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home before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rregular 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rov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home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ve drive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home before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irregular verbs in the past participl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helping verb (a form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and the correct past-participle of the verb in parenthese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peopl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choose) natural methods of getting more sleep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as chos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ave chos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have choo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has choo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irregular verbs in the past participl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ect the correct helping verb (a form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and the correct past-participle of the verb in parentheses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y peopl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choose) natural methods of getting more sleep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has chos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B) have chos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) have choo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has choo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past participle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st participl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by itself, cannot be the main verb of a sentenc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when a past participle is combined with another verb, called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elping verb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it can be used to make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esent perfect ten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st perfect ten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Have/h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+ past participle = present perfec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sent perfec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ens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used for an action that began in the past and either continues into the present or was completed at some unknown time in the pas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sent perfect tens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My car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as stalle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everal times recently. (This sentence says that the stalling began in the past but may continue into the present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ast tens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My car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alle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(This sentence says that the car stalled once and that it’s over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the present perfec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tense of the verb in parenthes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idence ____ (show) that disorientation is a major risk for inexperienced pilo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as sh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show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has show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the present perfec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tense of the verb in parenthes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idence ____ (show) that disorientation is a major risk for inexperienced pilo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has sh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show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has show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Had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+ past participle = past perfec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ha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plus the past participle to make th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ast perfect tens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ast perfect tense is used for an action that began in the past and ended before some other past ac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ast perfect tens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My car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ad stalle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everal times before I called the mechanic. (This sentence says that both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tall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alling the mechani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appened in the past, but the stalling happened before the calling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the past perfec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tense of the verb in parenthese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time my grandfather retired at the age of seventy, he ____ (hold) many different job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e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ad hold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had he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the past perfec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tense of the verb in parenthese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time my grandfather retired at the age of seventy, he ____ (hold) many different job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e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ad hold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) had he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gular present-tense ending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esent tens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used for actions that are happening at the same time that they are being written about (the present) and for things that happen all the tim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t-tense, regular verbs end either i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or they have no ending adde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th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ding when the subject i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e, she, it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 the name of one person or thing. Use no ending for all other subjec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+ past participle = passive voice</a:t>
            </a: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entence that is written in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ssive voic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s a subject that does not perform an action. Instead, the subject is acted up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create the passive voice, combine a form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ith a past participl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ssiv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newspape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as throw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nto the porch. (The subject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ewspap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did not throw itself onto the porch. Some unidentified person threw the newspaper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Active voic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sentences are written in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ctive voic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which means that the subject performs the ac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ctiv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delivery person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rew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newspaper onto the porch. (The subject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elivery pers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performed the action: he or she threw the newspaper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sive vs. active voic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th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assive voic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hen no one person performed the action, when you don’t know who performed the action, or when you want to emphasize the receiver of the ac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not overuse the passive voice. When you know who performed the action, it is usually preferable to identify the acto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ctiv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e bandleader chose Kelly to do a solo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assiv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Kelly was chosen to do a solo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If you wanted to emphasize Kelly’s being chosen rather than the bandleader’s choice, you might decide to use the passive voice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hanging from active to passive voic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 sent the payment over two weeks ag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rst, identify the subject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h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and the verb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en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k: What word in the sentence is receiving the action?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aymen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oss out the subjec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the word that is receiving the action the subject by moving it to the beginning of the sente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 the correct form of the verb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front of the main verb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can either delete the performer of the action or put this information after the verb and the wor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payment was sent two weeks ago by hi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the passive voic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of the following correctly rewrites this sentence in the passive voice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one spilled a drink on this book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Someone was spilled a drink on this book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A drink was spilled on this book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On this book, someone spilled a drink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the passive voic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of the following correctly rewrites this sentence in the passive voice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one spilled a drink on this book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Someone was spilled a drink on this book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A drink was spilled on this book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On this book, someone spilled a drink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nsistency of verb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sistency of verb tens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means that all actions in a sentence that happen (or happened) at the same time are in the same tens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all of the actions happen in the present or happen all the time, use th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sent tens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or all verbs in the sentenc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all of the actions happened in the past, use th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ast tens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or all verb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you edit your writing, make sure that any time a verb tense changes it is because the action the verb describes happened at a different time. Otherwise, the shift in tenses causes an inconsistenc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nsistency of verb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consistent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movi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art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just as w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ak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ur seats. (The actions both happened at the same time, bu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art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in the past tense,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ak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in the present tens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nsistent, present tens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movi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ar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just as w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ak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ur seats. (The actions and verb tenses are both in the present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nsistent, past tens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movi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art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just as w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ur seats. (The action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art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oth happened in the past, and both are in the past tens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consistent verb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word that fits into the following sentence without causing a shift in verb tens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hony broke the track record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ome to tell his fami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rus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ru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rus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consistent verb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word that fits into the following sentence without causing a shift in verb tens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hony broke the track record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ome to tell his fami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rus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ru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rus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gular verbs in the presen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2057400"/>
          <a:ext cx="8229600" cy="2884320"/>
        </p:xfrm>
        <a:graphic>
          <a:graphicData uri="http://schemas.openxmlformats.org/drawingml/2006/table">
            <a:tbl>
              <a:tblPr/>
              <a:tblGrid>
                <a:gridCol w="1904760"/>
                <a:gridCol w="2971800"/>
                <a:gridCol w="335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rst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j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 j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con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j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j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ir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 (he, it) jump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child jump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j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children j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verb problem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ck the form of the verb that will complete this sentence correctly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flu last winter at the end of Februar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cat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catc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cau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verb problem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ck the form of the verb that will complete this sentence correctly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flu last winter at the end of Februar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cat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catc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) cau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verb problem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ck the form of the verb that will complete this sentence correctl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most the whole flu seas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y already, so I thought I would avoid catching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ad w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go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had go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verb problem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ck the form of the verb that will complete this sentence correctl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most the whole flu seas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y already, so I thought I would avoid catching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ad w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go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) had go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verb problem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ck the form of the verb that will complete this sentence correctl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ick for more than three week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w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was be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verb problem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ck the form of the verb that will complete this sentence correctl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ick for more than three week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w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was be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verb problem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ck the form of the verb that will complete this sentence correctl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rom the flu, I got bronchitis and an ear inf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am recove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ad recove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recove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verb problem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ck the form of the verb that will complete this sentence correctl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rom the flu, I got bronchitis and an ear inf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am recove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ad recove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) recove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verb problem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ck the form of the verb that will complete this sentence correctl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____ taking no chances next flu season; I plan to get a flu sho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b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verb problem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ck the form of the verb that will complete this sentence correctl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____ taking no chances next flu season; I plan to get a flu sho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b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present-tense regular verb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verb form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 roommate (cook / cooks) us breakfast on Sunday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c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coo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present-tense regular verb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verb form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 roommate (cook / cooks) us breakfast on Sunday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c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coo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gular past-tense ending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st ten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used for actions that have already happene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ding is needed on all regular verbs in the past tens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esent tense and past tense verb ending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2286000"/>
          <a:ext cx="8229600" cy="2438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sent ten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ast ten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rst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avoid her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avoid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her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con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help m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help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m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ir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 walks fas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 walk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fas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14:23:06Z</dcterms:created>
  <dc:creator>BSM</dc:creator>
  <dc:description/>
  <dc:language>en-US</dc:language>
  <cp:lastModifiedBy>BSM</cp:lastModifiedBy>
  <dcterms:modified xsi:type="dcterms:W3CDTF">2008-02-14T16:10:35Z</dcterms:modified>
  <cp:revision>206</cp:revision>
  <dc:subject/>
  <dc:title>Verb Tense</dc:title>
</cp:coreProperties>
</file>